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7356-001C-4F84-A2B3-CF887F910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5540-17C6-4A14-949E-166E3569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E4DE-C3E6-4849-80F7-DEFF65A96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26A2-2843-458B-9114-31D9CD2A8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E5B9A-15AB-4DD3-A999-1D48D8E70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5D656-E683-42B0-8449-8E48FDD5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B2F84-D7FB-45B3-8F41-9A709A16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4B7EB-F2C4-45C9-B618-28B7379B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D85CFD-51B1-405B-A790-84BFE8FD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2FD19-5891-443B-B1C8-B2E2622E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5BDFE-BA4B-4A96-9ABE-317E17C8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CCC7-F870-4C76-AFE6-A4E4E2A3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FE8E1-F00C-4F22-8781-BD20B990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42C276-E786-425F-BB47-8BDA1A21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D3F04-3629-4F4B-B7AE-9C3E65A5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DE1494-AD64-48A3-A39D-7D4391BDA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17D44B-9881-4EA3-B959-FE42D8365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2E9A6-586D-49CE-BFFF-6F8DBB2ED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53169-0FC1-4583-B13A-553B290C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9A8BD-F806-4ABF-A29B-1CAB68ED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3BB2F-98C0-4979-AB88-7464AF05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6886E-CD6B-496B-A3F1-56DEEB98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E07C-BCBC-450D-BADA-0F2E2237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F0893-4C12-44A9-A9A7-3548D2BC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D1CAE-84E3-4FF7-B1B9-CDF2240F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985B1-37E2-448D-BD28-E7844792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E3F41-DEDB-4C45-AA19-6A8C7913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304FE-3964-400E-9FBC-E29ACE0B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1D861-4E64-47A4-986B-61A705CD8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88517-F056-4294-9592-220DDD145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9BF5F0-43D8-4D82-A93A-60A04D9B5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100FB5-5C4B-4E30-9D7E-05DDF70E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200769-A6AD-446F-96D7-3CA1FF3DB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E69C-98DD-4B00-9CA5-C1CBAAA5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274D49-BCD5-4672-896F-ADC63558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DE715E-1167-4B14-ABA8-235B1F24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B4086D-2FB4-4F8D-8D54-0209777E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E41910-F83C-4AAF-89CC-DFBA358F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DAABAA-AA25-4AFE-BAA8-8FB1F32A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DAF030-8203-40A2-9384-01B72885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1BFA02-D744-47C3-B609-C7954DC1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1C4D4B-34DA-4AC1-B17D-D0EE3C497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D7EA55-7EA1-4621-BF7E-84D68D642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6F28EE-E03F-44A7-9897-425FEF3B5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22C6-59D3-4E3E-9D95-D4D443F8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2FB3AA-8491-4272-8F10-B2B007EB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46CEEE-CA52-402F-BCD7-F28FC4DA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CFB7E4-479E-42E6-A4EB-18543A55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5D1D76-10C3-48A3-9568-CE1B24D9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358474-2279-496A-A0F4-9F02BC15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F3ADCA-9C16-466C-9FAB-CDE9BA93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86DB20-7782-4091-B799-11103B41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4113C6-1DCC-4C1A-8061-7014F652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1FB1CC-3501-4EE0-A19B-09B56042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BAB9F7-EE1B-4F22-9FF2-377710AA4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C9A9-57BC-46BC-9DFD-CE2785A4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CD3DBA-B086-4CC5-9472-6BC8046BE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A72FA7-0B58-41AD-98E9-04054DCEA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32958E-7655-4E76-AC97-DC6A2617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52C631-33FC-4719-9BBA-8F1079C1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C7D4E5-C4FD-443E-993B-F3686688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F02A71-C410-4725-B05A-F8159499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0512F0-9815-4E3A-97F0-9807F65D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2FDBEF-DDA1-4419-9C5C-606D5F86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4C8C41-8A95-4E6B-80C1-61FF5EE3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C1A22E-51ED-4809-B332-E712C4FF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932F-D6C9-46C4-8C09-5A638F9C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B94802-0201-4BE1-90E5-3E473841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B45F30-8095-4233-B484-07EBE8B26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F9DA5A-DFC5-4498-A9A7-B741FEE86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C2C2-4325-424B-A883-7A986303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3F75-FC79-4230-ABB5-5A41D1E0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546e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70c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70c0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AB1A-9615-4A6F-A466-BED3CE7955B3}" type="slidenum">
              <a:rPr b="0" lang="en-US" sz="1600" spc="-1" strike="noStrike">
                <a:solidFill>
                  <a:srgbClr val="0070c0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8eb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8eb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Oval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7598d9"/>
          </a:solidFill>
          <a:ln w="38160">
            <a:solidFill>
              <a:srgbClr val="7598d9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546e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70c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70c0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C3CD-7F55-4ABC-BFBB-F5675882FB42}" type="slidenum">
              <a:rPr b="0" lang="en-US" sz="1600" spc="-1" strike="noStrike">
                <a:solidFill>
                  <a:srgbClr val="0070c0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546e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70c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70c0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4D44-A8B7-4449-8A86-C317681B1291}" type="slidenum">
              <a:rPr b="0" lang="en-US" sz="1600" spc="-1" strike="noStrike">
                <a:solidFill>
                  <a:srgbClr val="0070c0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8eb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8eb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546e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70c0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7C6B-898A-4276-86AD-69AC02A20680}" type="slidenum">
              <a:rPr b="0" lang="en-US" sz="1600" spc="-1" strike="noStrike">
                <a:solidFill>
                  <a:srgbClr val="0070c0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70c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546e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70c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70c0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F4B7-D216-426F-BE50-2DDF94E88739}" type="slidenum">
              <a:rPr b="0" lang="en-US" sz="1600" spc="-1" strike="noStrike">
                <a:solidFill>
                  <a:srgbClr val="0070c0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546e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70c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70c0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6338-15C9-4BE1-8BE7-0B83594E7648}" type="slidenum">
              <a:rPr b="0" lang="en-US" sz="1600" spc="-1" strike="noStrike">
                <a:solidFill>
                  <a:srgbClr val="0070c0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Title 1" descr=""/>
          <p:cNvPicPr/>
          <p:nvPr/>
        </p:nvPicPr>
        <p:blipFill>
          <a:blip r:embed="rId1"/>
          <a:stretch/>
        </p:blipFill>
        <p:spPr>
          <a:xfrm>
            <a:off x="-6480" y="19080"/>
            <a:ext cx="7785360" cy="19130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http://24.media.tumblr.com/TEJYCTqKIp2sl7kmOEnUhwppo1_400.jpg"/>
          <p:cNvPicPr/>
          <p:nvPr/>
        </p:nvPicPr>
        <p:blipFill>
          <a:blip r:embed="rId2"/>
          <a:stretch/>
        </p:blipFill>
        <p:spPr>
          <a:xfrm>
            <a:off x="2971800" y="2133720"/>
            <a:ext cx="25909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Born 1926 in small Southern tow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Real name is Nelle Harper Le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till alive today though very privat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Finished TKAM in 1957 right before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he peak of the civil rights movement (published in 1960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Won the Pulitzer Prize in 1961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5" name="Title 2" descr=""/>
          <p:cNvPicPr/>
          <p:nvPr/>
        </p:nvPicPr>
        <p:blipFill>
          <a:blip r:embed="rId1"/>
          <a:stretch/>
        </p:blipFill>
        <p:spPr>
          <a:xfrm>
            <a:off x="85680" y="146160"/>
            <a:ext cx="8607600" cy="12319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http://trsullivan.mlblogs.com/harper-lee.jpg"/>
          <p:cNvPicPr/>
          <p:nvPr/>
        </p:nvPicPr>
        <p:blipFill>
          <a:blip r:embed="rId2"/>
          <a:stretch/>
        </p:blipFill>
        <p:spPr>
          <a:xfrm>
            <a:off x="5867280" y="380880"/>
            <a:ext cx="2571840" cy="32292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ctional town of Maycomb, Alabam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mall, southern town where racism present</a:t>
            </a:r>
            <a:endParaRPr b="0" lang="en-US" sz="2400" spc="-1" strike="noStrike">
              <a:solidFill>
                <a:srgbClr val="0070c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933-1935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ased on Harper Lee’s home town of Monroeville, Alabam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8" name="Title 2" descr=""/>
          <p:cNvPicPr/>
          <p:nvPr/>
        </p:nvPicPr>
        <p:blipFill>
          <a:blip r:embed="rId1"/>
          <a:stretch/>
        </p:blipFill>
        <p:spPr>
          <a:xfrm>
            <a:off x="85680" y="146160"/>
            <a:ext cx="8607600" cy="12319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http://www.tokillamockingbird.com/courtroom112006av1.jpg"/>
          <p:cNvPicPr/>
          <p:nvPr/>
        </p:nvPicPr>
        <p:blipFill>
          <a:blip r:embed="rId2"/>
          <a:stretch/>
        </p:blipFill>
        <p:spPr>
          <a:xfrm>
            <a:off x="3048120" y="3733920"/>
            <a:ext cx="38098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oral courag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ocial inequality/prejudic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ood vs. evi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rowing up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mall town southern lif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riendship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acrific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ymbol of the mockingbir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1" name="Title 2" descr=""/>
          <p:cNvPicPr/>
          <p:nvPr/>
        </p:nvPicPr>
        <p:blipFill>
          <a:blip r:embed="rId1"/>
          <a:stretch/>
        </p:blipFill>
        <p:spPr>
          <a:xfrm>
            <a:off x="85680" y="146160"/>
            <a:ext cx="8607600" cy="12319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http://www.tpwd.state.tx.us/kids/about_texas/images/mockingbird_big.gif"/>
          <p:cNvPicPr/>
          <p:nvPr/>
        </p:nvPicPr>
        <p:blipFill>
          <a:blip r:embed="rId2"/>
          <a:stretch/>
        </p:blipFill>
        <p:spPr>
          <a:xfrm>
            <a:off x="5715000" y="1676520"/>
            <a:ext cx="224460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cout Finch: narrato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594720" indent="-253440">
              <a:spcBef>
                <a:spcPts val="300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elling the story as an adult looking back on these two years of her childhood</a:t>
            </a:r>
            <a:endParaRPr b="0" lang="en-US" sz="2400" spc="-1" strike="noStrike">
              <a:solidFill>
                <a:srgbClr val="0070c0"/>
              </a:solidFill>
              <a:latin typeface="Constantia"/>
            </a:endParaRPr>
          </a:p>
          <a:p>
            <a:pPr marL="253440" indent="-253440">
              <a:lnSpc>
                <a:spcPct val="150000"/>
              </a:lnSpc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Jem Finch: Scout’s older broth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150000"/>
              </a:lnSpc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tticus Finch: their father who is a lawy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150000"/>
              </a:lnSpc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oo Radley: the town recluse who fascinates the kid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150000"/>
              </a:lnSpc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ill: Jem and Scout’s adventurous frien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150000"/>
              </a:lnSpc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lpurnia: the Finch’s black maid and cook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4" name="Title 2" descr=""/>
          <p:cNvPicPr/>
          <p:nvPr/>
        </p:nvPicPr>
        <p:blipFill>
          <a:blip r:embed="rId1"/>
          <a:stretch/>
        </p:blipFill>
        <p:spPr>
          <a:xfrm>
            <a:off x="85680" y="146160"/>
            <a:ext cx="86076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s the children in the story grow up during two years they are exposed to many “evil” aspects of life and must deal with and try to understand those evil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children seem to be on a quest to bring Boo Radley out of hiding.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6" name="Title 2" descr=""/>
          <p:cNvPicPr/>
          <p:nvPr/>
        </p:nvPicPr>
        <p:blipFill>
          <a:blip r:embed="rId1"/>
          <a:stretch/>
        </p:blipFill>
        <p:spPr>
          <a:xfrm>
            <a:off x="85680" y="146160"/>
            <a:ext cx="8607600" cy="12319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http://www.varley.net/Pages/images/Favorite%20Movies/To%20Kill%20a%20Mockingbird.jpg"/>
          <p:cNvPicPr/>
          <p:nvPr/>
        </p:nvPicPr>
        <p:blipFill>
          <a:blip r:embed="rId2"/>
          <a:stretch/>
        </p:blipFill>
        <p:spPr>
          <a:xfrm>
            <a:off x="4114800" y="3809880"/>
            <a:ext cx="27432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8:29:58Z</dcterms:created>
  <dc:creator>Sara Klopp</dc:creator>
  <dc:description/>
  <dc:language>en-US</dc:language>
  <cp:lastModifiedBy>Sara Klopp</cp:lastModifiedBy>
  <dcterms:modified xsi:type="dcterms:W3CDTF">2010-04-07T20:20:40Z</dcterms:modified>
  <cp:revision>32</cp:revision>
  <dc:subject/>
  <dc:title>To Kill a Mockingbird  by Harper Lee</dc:title>
</cp:coreProperties>
</file>